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73FB-6433-409F-93A7-5110B1FF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4429-132E-4F4C-A665-01F0AB82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C259-FDAD-479D-ABA4-170E65A76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CAC3-31D9-4693-B161-8BEE8B61E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7FE6-40B9-45F5-BD83-0DE8B8FF2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F060-D772-4F46-BE16-7530F6DE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1620-BBF0-4C7A-A500-801DD3F2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312D-7C47-4014-976D-CE0B6B1D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F449-92EF-4AE7-B1B2-CA254495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156B-6E5E-44EF-A20B-E63B6886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4B57-3E7E-4FA0-B03D-CEC43866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449C-7C3C-4EF7-82C9-248289C0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50EE-8C9B-4CAC-ABE8-59443D44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84C5-18B0-4D33-9634-F357F78D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F276-AF7A-4895-8F27-98E1FA09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2595-580B-4AFF-8FDC-39E8D6544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261E-0710-4099-8D99-BC118D627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A9E86-D7CA-4261-AABE-DE188D90E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8C5DB-9874-4823-9D70-DBC1BC70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BE464-6C46-4916-8754-531D512A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7631B-9793-4A2B-AC58-911A35EC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6CA73-59F3-4F14-9A8E-0AD543D4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9E57-3E30-4585-94EA-7CD0A0B6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BB4DA-DB40-4492-A033-B6E0D103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0726D-19F1-4F0B-A07D-B8025724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0AC68-D8C5-4557-A340-FDA4E15B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D219C-423B-471B-BF79-66D1296B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89213-8A09-4CD7-B397-667235FA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27D84-F268-41FF-AF60-C1757EC56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CFC17-180E-4FE0-91DA-A5B5320BF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854AD-35A7-4C6B-BA3F-BA9B96D18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3BE8A-A5C6-4B8D-9093-2F1248F3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18B16-3FA9-4DF7-AECC-FD9350C4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419D-EFDD-43E9-9822-29837C55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95700-A91A-4E8B-AF15-0B53EC33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842E6-4143-4D79-B315-C8A42AD6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FCD22-6A3B-4C54-939B-8AA27A85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D6FF6-8CD5-4235-B1DF-81425CA5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9500D-1567-4D86-B6C5-13A23701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1BB33-1620-4A45-9601-D70FEF38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F23CB-B41D-4E6D-878B-466A5B44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72ADE-7065-4572-9095-966ECD047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CB832-57AD-4AC9-90D3-68E5DAAE7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AE217-BED8-49E2-8D61-241260D1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F8CA-5010-4AAF-A359-78233085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D15E2-4DC2-4740-8E78-A37D1B3A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17CCC-EA3F-4826-9E15-BD1A6C03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16F65-87E4-4ED9-B4AD-D82334DC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84C39-C9DF-4FB9-B7C3-0521F4FC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07C6E-D349-47AF-9903-65BA6EFA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D22C5-0EF2-4307-A53A-E194F4E0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CBF3E-E6B2-464A-B115-F9802C44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E3E54-77B7-40FF-BA00-432DB20A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2BFDD-28F8-44C7-A664-A6F474CA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83620-4DF6-4FB4-B716-E282AF2C1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207B-0ED1-4907-8DFE-16B213E8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3FD37-8356-435A-A7A0-86CA43F2D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33322-FD74-4D7D-BFB1-036E0F72C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FB80B-313A-4365-B09F-6D8FD53F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FED38-B024-45B5-BE7E-ACD260CF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35ECD-D063-4170-9767-F3311ECD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6E5EC-8E41-48A4-911E-E7D7CA1E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441B4-C477-4CB3-8783-7369F9FF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7ED74-AAB1-4CBE-8B57-23F9E9D1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48642-082D-4A95-AC29-E2D881D1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ABD65-E552-4706-8A5B-1129254C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BF1A-7619-4689-80B3-0F1C56EA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38C70-CFE0-48AB-B38D-B47418DA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5F854-18F7-471D-9CEA-6229433A7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613AB-B930-4F17-BD73-DE748A8B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5C9AA-2019-48AA-812F-26B380B6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A85B8-4913-434D-AC37-9EFBE5F1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1F776-6EEE-42DD-B6B7-8ECEFBCD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CEEE5-9D9B-42C7-993A-73346D67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0C1C5-7152-4072-8BB2-5FDB9ED7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270A4-56A2-4A2F-8CFE-34CE7EAF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1E0D8-ACC1-41D8-9DF6-4DDA3DB7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0CFE-F679-4B0F-B841-2EBBEDAC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3CDE2-BE26-44B4-AEAA-5324BEEB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719F0-6857-4C5E-B49E-23EE5B69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CB8FA-25B6-4D5E-B290-EE67D301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57615-C3FB-40D5-B76F-E9694CE87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52FD0-8C83-4316-B056-E1F7A4F69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1FDF-D8B6-49B7-802B-31BF54B2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6C52-870E-4174-A114-FCCB3A26FEC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0F6F-9289-4CA6-80B1-C00A0E21B97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7653-6839-4736-8D5B-5CA1BCD6BFD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4B85-D43A-439C-9F90-4CE0BF6F748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7CD0-28F4-4118-9DDF-C40C63D8339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2AA4-373F-48E6-9979-FC0A0A1733C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2CE3-68F2-46C9-81E1-86D072F283E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228600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72314"/>
                </a:solidFill>
                <a:latin typeface="Gill Sans MT"/>
              </a:rPr>
              <a:t>MCPS K-12 School Counseling Program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at we are working on now…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9047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all 201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mpleted final program document draf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esented to all counselors Oct 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esent to T&amp;L Committee Nov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990720" y="0"/>
            <a:ext cx="815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ere we are heading…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all 201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diness Survey completed by all district and Hellgate Elementary school counselo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inter 201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eliminary protocol for new students –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lco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roll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sessment of student abilit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ere we are heading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pring 201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esent plan to school counselors and principals for transitioning stud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nd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esent  to T&amp;L committe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ition Pla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-12 School Counseling Comprehensive Program Documen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stablish District Advisory Counc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– first mee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et annual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ig Picture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chool Year 2012-2013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-going training of all feeder school and district school counselors throughout the yea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pring 2013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roduction of comprehensive school counseling program to all staff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plementation of school counseling guidance curriculum in all schoo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gend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lcome and Introduc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imeline of K-12 Comprehensive Program Develop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have we don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we are doing now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re we are headed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adiness Surve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os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8960" y="11426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72314"/>
                </a:solidFill>
                <a:latin typeface="Gill Sans MT"/>
              </a:rPr>
              <a:t>The WHY – </a:t>
            </a:r>
            <a:r>
              <a:rPr b="0" lang="en-US" sz="4900" spc="-1" strike="noStrike">
                <a:solidFill>
                  <a:srgbClr val="572314"/>
                </a:solidFill>
                <a:latin typeface="Gill Sans MT"/>
              </a:rPr>
              <a:t>our guiding question…..</a:t>
            </a:r>
            <a:endParaRPr b="0" lang="en-US" sz="4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142640" y="3352680"/>
            <a:ext cx="7497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How are students different by what we do?”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unselor Leadership Team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Aaron Shattuck – Sentinel High Schoo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Angela Opitz – Rattlesnake Elementary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Bonnie Fergerson – Willard Alternative High 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chool Program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Catie Cook – Hellgate Elementary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Christine Kolczak – Hellgate High Schoo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Erica Zins – Russell/Lewis &amp; Clark Elementary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Katie Boynton – Hellgate High Schoo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Marolane Stevenson – Big Sky High Schoo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Michelle Stearns – Porter Middle Schoo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Mike Perry – Hawthorne Elementary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95280" y="198108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72314"/>
                </a:solidFill>
                <a:latin typeface="Gill Sans MT"/>
              </a:rPr>
              <a:t>What is a Comprehensive School Counseling Program?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434960" y="152280"/>
            <a:ext cx="74995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MCPS School Counseling Progra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 school counseling program is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omprehensive in scope, preventive in design, and developmental in natur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.  The MCPS School Counseling Program reflects a comprehensive approach that begins with a foundation, upon which delivery, management, and accountability systems are integrated.  It is designed to enable all students to receive program benefits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omprehensive in Scop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 comprehensive school counseling program focuses on what all students, from kindergarten through 12th grade, should know, understand, and be able to do in three domains of student development: academic, career, and personal/social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reventive in Desig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 purpose of the school counseling program is to impart specific skills and learning opportunities in a proactive, preventive manner, ensuring all students can achieve school success through academic, career, and personal/social development experiences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evelopmental in Natu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CPS’ School Counseling Program is designed to meet the needs of students throughout various developmental stage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990720" y="0"/>
            <a:ext cx="815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at we have done…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371240" y="1218960"/>
            <a:ext cx="7497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inter 2010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ll school counselors assess their dutie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chool Counseling Leadership Team built background knowledge of American School Counseling Association’s,  ASCA, national mod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pring 2011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uilt Found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veloped Mission, Beliefs, Philosophy, and Standard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rought all school counselors in the district together to share and build sup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at we have done…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59984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ummer 201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ded Hellgate Elementary Counselor to Leadership Tea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veloped Learning Targets for grades K-12 in all 9 Standar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iki Boot cam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veloped outline for final docu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veloped timeline for next step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2T20:10:03Z</dcterms:created>
  <dc:creator>eazins</dc:creator>
  <dc:description/>
  <dc:language>en-US</dc:language>
  <cp:lastModifiedBy>eazins</cp:lastModifiedBy>
  <dcterms:modified xsi:type="dcterms:W3CDTF">2011-10-25T17:37:01Z</dcterms:modified>
  <cp:revision>24</cp:revision>
  <dc:subject/>
  <dc:title>K-12 School Counseling Program Time-Line</dc:title>
</cp:coreProperties>
</file>